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B1EFF-B693-4E94-B6EE-E82D1B6F0BE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AA1B7-5A8E-4E46-8140-C3C3B7936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go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77796-4CBF-436D-8DBB-24336C635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and in the New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E4B10-5016-4AED-B2BD-A0AE79018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urch of En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t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i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D0D5F-7519-4A1C-91EC-BFB8C2ADB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of Burg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flower Comp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D77FC-07FC-4527-9919-A642D9A36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F36-79C1-4869-9E27-5583CABB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029-19CF-4E38-9574-A2ADD6B7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48A-3132-469E-911F-4D03B770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662-B5A5-4DC4-979A-3EE5146E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2FD-A40C-4572-8ECC-FA39B4AC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141-2513-4D07-A93C-8226AB17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E66B-381F-4F96-AA1C-43EA2279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6F3-733B-414E-B244-C772DAC1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600-9F28-40E5-B6F4-3D3E217E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40D-D43E-4B92-9950-50211849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712-CF04-43CC-8D29-F50CE5B1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09B-7D77-4151-88F8-2E007CFD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3FD74-F7B6-4FA9-8BF1-4AD2827815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D0EE4-7801-4EE4-8402-5BD292DE6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1038240" y="685800"/>
            <a:ext cx="70102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o founded the Massachusetts Bay Colo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itans founded it in 163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itans wanted to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ify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Church of England, but the Church of England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ersecu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nathan Winthrop led the Puritan commun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990720" y="457200"/>
            <a:ext cx="6781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d colonies play a role in th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ercantile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syste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uritans received a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har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om the 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achusetts Bay Colony  succeeded on lumber and fis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3.2_colonies and tribes.jpg"/>
          <p:cNvPicPr/>
          <p:nvPr/>
        </p:nvPicPr>
        <p:blipFill>
          <a:blip r:embed="rId1"/>
          <a:stretch/>
        </p:blipFill>
        <p:spPr>
          <a:xfrm>
            <a:off x="457200" y="685800"/>
            <a:ext cx="5334120" cy="5364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6477120" y="1289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6705720" y="4343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ym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6"/>
          <p:cNvCxnSpPr>
            <a:stCxn id="52" idx="1"/>
          </p:cNvCxnSpPr>
          <p:nvPr/>
        </p:nvCxnSpPr>
        <p:spPr>
          <a:xfrm flipH="1" flipV="1">
            <a:off x="4190400" y="3809520"/>
            <a:ext cx="2515320" cy="796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14"/>
          <p:cNvCxnSpPr/>
          <p:nvPr/>
        </p:nvCxnSpPr>
        <p:spPr>
          <a:xfrm flipH="1">
            <a:off x="3961800" y="1904040"/>
            <a:ext cx="2515320" cy="1262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16"/>
          <p:cNvCxnSpPr/>
          <p:nvPr/>
        </p:nvCxnSpPr>
        <p:spPr>
          <a:xfrm flipH="1" flipV="1">
            <a:off x="5790960" y="3504960"/>
            <a:ext cx="205776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066680" y="1405080"/>
            <a:ext cx="7010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at form of government did the Massachusetts Bay colonists fol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ative 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990720" y="14479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reli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mestown was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ymouth was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achusetts Bay Colony was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143000" y="1066680"/>
            <a:ext cx="71629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mestown had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ymouth had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achusetts Bay Colony had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had the FIRST idea that the settlers had the right to govern themselves?_____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United States_no states.pdf"/>
          <p:cNvPicPr/>
          <p:nvPr/>
        </p:nvPicPr>
        <p:blipFill>
          <a:blip r:embed="rId1"/>
          <a:stretch/>
        </p:blipFill>
        <p:spPr>
          <a:xfrm>
            <a:off x="22860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5797440" y="1125360"/>
            <a:ext cx="334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6400800" y="3060720"/>
            <a:ext cx="24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095880" y="4343400"/>
            <a:ext cx="24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6"/>
          <p:cNvCxnSpPr>
            <a:stCxn id="61" idx="1"/>
          </p:cNvCxnSpPr>
          <p:nvPr/>
        </p:nvCxnSpPr>
        <p:spPr>
          <a:xfrm flipH="1" flipV="1">
            <a:off x="5105160" y="2742480"/>
            <a:ext cx="129600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Straight Arrow Connector 8"/>
          <p:cNvCxnSpPr/>
          <p:nvPr/>
        </p:nvCxnSpPr>
        <p:spPr>
          <a:xfrm flipH="1">
            <a:off x="5104800" y="2132640"/>
            <a:ext cx="14482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Straight Arrow Connector 9"/>
          <p:cNvCxnSpPr/>
          <p:nvPr/>
        </p:nvCxnSpPr>
        <p:spPr>
          <a:xfrm flipH="1" flipV="1">
            <a:off x="4799880" y="3351960"/>
            <a:ext cx="1600920" cy="129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0:17:53Z</dcterms:created>
  <dc:creator>Thomas Hagerty</dc:creator>
  <dc:description/>
  <dc:language>en-US</dc:language>
  <cp:lastModifiedBy>Thomas Hagerty</cp:lastModifiedBy>
  <dcterms:modified xsi:type="dcterms:W3CDTF">2014-10-09T15:24:40Z</dcterms:modified>
  <cp:revision>108</cp:revision>
  <dc:subject/>
  <dc:title>Slide 1</dc:title>
</cp:coreProperties>
</file>